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5D82-BF84-4D9B-B1AC-E31879A4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D52C-A712-4C2D-9AA1-C2965EC0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3438-E268-43FC-A48A-4684FE4B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ECA3-4C97-4494-AD27-4E8B0F54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8EAA-5921-4486-8279-9BED4974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EE27-E727-43E8-BA4D-23608D7C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6DC5-6573-413C-B9A0-3CA442AD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33E6-F307-4FE7-ACBE-58E63763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C097-7AFD-4457-BB10-BF07B3B1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8891-C836-4AD9-AE45-B34D238B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823B-230A-4192-97B2-8C60E050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00BF-7E6E-4442-8ABB-8A458C0E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E80E-7967-4928-83FE-81579B32FBE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steuning t.b.v. interviewen innovee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tact opb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mpat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istervaar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r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luistervaardigheden -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contact opbouwen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oorten 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luistervaardigheden - contact opbouwen -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soorten vragen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755640" y="2533680"/>
            <a:ext cx="53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n, gesloten en keuzevraa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recte en indirecte vraa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ichte of lineaire vraa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flectieve vraa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vraa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torische vraa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ypothetische vra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terviewstij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rec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n-direc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goede interviewer past beide flexibel to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luistervaardigheden - contact opbouwen - soorten vragen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Arial"/>
              </a:rPr>
              <a:t>Succe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8692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rei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istervaar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opb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en 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viewstij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ze geïnterview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gen op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bouw van het int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orbereidi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informatie in één gesprek verzam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re 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re anticipatie tijdens gesp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waardering (medewerking) van geïnterview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orbereidi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Keuze geïnterviewde (algem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is je doelstell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is het meest geschikt of informatie te verstre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itie in bedrijf/functie maatschappij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 inscha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ak maken (neutrale plaats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orbereidi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agen op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le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fdvragen op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lain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agen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lain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el voor ogen (fuik/omgekeerde fui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lain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v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lain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strak opvol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orbereidi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pbouw van het int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el int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peningsvr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pen vr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er onderw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pen vr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orvr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nva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el bew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ventueel confronteren (nooit suggestief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ndig laatste vraag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nva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dan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gebeurt er met het int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orbereidi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uistervaar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 de geïnterviewde merken dat 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istert, d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ïnteresseerd bent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m/haar waarde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uistervaardigheden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uistervaar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g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ichte open ho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nik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m-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ha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afras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vat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uistervaardigheden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1:57:21Z</dcterms:created>
  <dc:creator>Robert Onderstijn</dc:creator>
  <dc:description/>
  <dc:language>en-US</dc:language>
  <cp:lastModifiedBy>Herma</cp:lastModifiedBy>
  <dcterms:modified xsi:type="dcterms:W3CDTF">2011-06-21T13:21:37Z</dcterms:modified>
  <cp:revision>5</cp:revision>
  <dc:subject/>
  <dc:title>Interviewtechniek HLB24</dc:title>
</cp:coreProperties>
</file>